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224-3B1D-42D9-B677-41C22B6A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6FA-102C-4735-8C2C-98B16C19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059-1F7F-4823-8DAB-85A163E7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3D3-828A-45FD-9AE8-94212ACE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DA3A-6AE5-4973-99ED-96AE95F3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27E2-DECD-41A2-9225-547D652E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C6BF-6E03-401C-AC1D-624DD3A7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30A2-6129-4D6E-A813-0CAC2561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3821-6389-48D3-B7A2-897D1AC6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ACEC-195C-459E-8E0B-B9567EFE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9675-C780-48C1-B0E5-6774749A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691-F95B-46CD-B969-9AF288B5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1945-629A-4E9A-BB87-513AC364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41BD-BBC3-4E13-AA6B-D8024D49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D910-9A52-46CC-A824-622B05D3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C3FE-CEAF-4454-A491-7EA5E49F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AB02-6E4D-4282-80C6-6B449A5C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45098-80F2-4AD7-8B40-515A05FA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8A966-D05B-43BB-8095-BE5B68E9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28F8F-4AD6-40BA-9FBF-E6890A6E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2B9D6-4101-480B-877D-BD8E59A3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6335B-BA13-4BF5-A77F-15763BBF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837-D6AF-4F7F-8FF7-ABE3EF4C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7BFBB-669B-4A54-9D20-0A5FA0A1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E242F-9D8D-4A5D-AA3A-32CFF0A3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9F7AE-04B9-4ED6-B5F5-AFAC1F72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7312E-6516-4249-93C8-0EDBC3B2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E9712-9BE8-441C-A239-A3C5022D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B8AB-04DA-404F-9396-A2547F6C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71BA8-F586-4CA1-A4A1-AC76A76A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14D41-0E33-4FC9-8935-8F6F23BE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EC5B0-CAB1-4E23-A2FA-4E3FC052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49460-9FF1-4A98-A0E2-A2D6B52F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26D-12BC-4353-9A68-36B5C41F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8FA4F-AF53-45FA-81B1-40CE0200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929B2-BAEF-43B6-A749-75031380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9F8ED-992D-42F1-AC9C-02900115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609B2-C86B-43F4-A46F-7C99AFD0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6E611-4618-4AF1-A857-B29C16FC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45292-8AB2-484F-8DBB-F9C4A244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32659-BF2D-4EBB-8C5F-5EFE65BA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8B71C-96C3-4A54-BC18-8581A6CF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FCCEA-E987-4B8B-99E5-2B34802C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E1B7D-1C26-4A86-AB96-FE9A175B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A4D-1F19-40A1-AD80-D5065406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F8FAF-E46C-4C55-AB6E-82D3FC07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A9DA4-DB5C-48CB-947E-C3ABC329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DF115-1EF4-4C21-BFC3-6E009D9A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22B8E-4536-4CCD-BC20-E193913A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E2922-47D8-46E8-9279-47921C41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D454A-837F-4176-BE53-EE26F053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B7111-DBBB-4E05-881F-3F17241C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6160D-DE6D-41F3-B84E-CC6472D1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C77F9-0322-48A9-B00F-2A82B4AB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C4ECC-6F78-4055-9D0D-BBFA5211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9BA-49FC-4E99-85DA-9898C161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EF388-E87E-41D6-89AC-6146B054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AA881-2796-4C4F-9FA2-6B217E48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AD7D0-A67B-43D7-82C1-07D8A07C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74589-80A4-49C7-8C90-4D2C693E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098DC-9C25-450E-9DDC-B3EE3963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198FF-C75B-435A-A9C2-FE0F77CD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26BC9-912D-4F79-8ED3-8A315CB9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AAEAF-7856-43AF-B2FC-B10C428E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A126F-D201-4638-AC3C-C1B94767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1C34B-9456-4FD1-8F2C-7236C0D7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63D-7140-45CE-B3EF-4A0D848C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0753B-AA65-484B-8639-A0AD7ABE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54C3A-F045-4215-8B44-EF642AC6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71A16-2E5B-4C37-9CFC-C5D9AEF3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64924-FE38-415E-9AF7-27B7DEEE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5D3ED-2000-4DDC-93E5-60006AC3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F7463-8C99-4F27-ADAD-7CFC4FDC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6EFF5-F268-4B9D-BCED-2C58117E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E8DC8-92C5-429B-996C-3DD79835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3A3E3-16AB-453E-871D-49D45125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FAB9F-78FB-4405-8161-C6396498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916-C276-43E4-A078-14DF79BC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34EE1-4801-49EA-B683-A1A46E12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0616D-75F0-439E-9AF8-DC5F2EE9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677EC-350B-4B46-B883-3870EFF5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B7052-CF3A-41EC-A205-B8F65328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C7159-A9A1-4BB8-BA25-CFFFC8A6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91F-5153-4878-8700-8F4B169C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tângul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tângul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tângul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tângul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tângul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tângul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tângul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tângul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936D-B3E0-48DC-A354-32FFDB52B879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tângulo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tângulo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tângulo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tângulo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tângulo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tângulo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tângulo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tângulo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07CE-EEAD-496C-8055-B59421EE006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tângul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tângul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tângul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tângul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tângul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tângul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tângul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tângul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tângul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orma livre 13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b2b2b2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orma livre 14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b2b2b2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orma livre 12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orma livre 15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orma livre 16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orma livre 17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orma livre 18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orma livre 19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orma livre 20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orma livre 21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orma livre 22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orma livre 23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orma livre 24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orma livre 25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orma livre 26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tângulo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3f3f3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tângulo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tângulo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tângulo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tângulo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tângulo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E11A-AF04-4D89-B666-19D3C774D4F6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3959-750F-4FF3-AC83-6D992DAB68F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tângulo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3f3f3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tângulo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tângulo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tângulo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tângulo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tângulo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tângulo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tângulo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tângulo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tângulo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6A13-2AA1-40D0-8B39-81D5069A83D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AD1E-B943-4A99-B2A3-84432148C333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tângul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tângul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tângul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tângul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tângul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tângul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tângul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tângul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tângul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tângulo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Conector reto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upo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Conector reto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Conector reto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Conector reto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upo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Conector reto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Conector reto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Conector reto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upo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Conector reto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Conector reto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Conector reto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4D34-6700-43AE-A462-3C0672F5254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Imagem 1" descr="Imagem1.jpg"/>
          <p:cNvPicPr/>
          <p:nvPr/>
        </p:nvPicPr>
        <p:blipFill>
          <a:blip r:embed="rId1"/>
          <a:stretch/>
        </p:blipFill>
        <p:spPr>
          <a:xfrm>
            <a:off x="1500120" y="142920"/>
            <a:ext cx="6072120" cy="6500880"/>
          </a:xfrm>
          <a:prstGeom prst="rect">
            <a:avLst/>
          </a:prstGeom>
          <a:ln w="0">
            <a:noFill/>
          </a:ln>
        </p:spPr>
      </p:pic>
      <p:pic>
        <p:nvPicPr>
          <p:cNvPr id="369" name="anni 60 -orietta berti - ma come balli bene bella bimba432.mp3" descr=""/>
          <p:cNvPicPr/>
          <p:nvPr/>
        </p:nvPicPr>
        <p:blipFill>
          <a:blip r:embed="rId2"/>
          <a:stretch/>
        </p:blipFill>
        <p:spPr>
          <a:xfrm>
            <a:off x="664380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aixaDeTexto 1"/>
          <p:cNvSpPr/>
          <p:nvPr/>
        </p:nvSpPr>
        <p:spPr>
          <a:xfrm>
            <a:off x="428760" y="1500120"/>
            <a:ext cx="8358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Surpreendente, por trazer de forma criativa e simpática todo um vigoroso e 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té então desprestigiado universo social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CaixaDeTexto 1"/>
          <p:cNvSpPr/>
          <p:nvPr/>
        </p:nvSpPr>
        <p:spPr>
          <a:xfrm>
            <a:off x="428760" y="928800"/>
            <a:ext cx="8286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Surpreendente também pela audácia no uso da linguagem contrariando não só a disciplina gramatical mas, 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sobre tudo o “bom gosto” lingüístico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CaixaDeTexto 1"/>
          <p:cNvSpPr/>
          <p:nvPr/>
        </p:nvSpPr>
        <p:spPr>
          <a:xfrm>
            <a:off x="285840" y="285840"/>
            <a:ext cx="85010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Surpreendente, ainda, pela utilização de técnicas de cunho modernista, de 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impacto inovador no Brasil daquela época, como sua forma narrativa, feita 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pequenos blocos e uma linguagem que se quer jornalística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CaixaDeTexto 1"/>
          <p:cNvSpPr/>
          <p:nvPr/>
        </p:nvSpPr>
        <p:spPr>
          <a:xfrm>
            <a:off x="500040" y="500040"/>
            <a:ext cx="27147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Alcântara Machado busca retratar os aspectos da vida cotidiana  dos novos mestiços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8" name="Imagem 2" descr="Imagem5.jpg"/>
          <p:cNvPicPr/>
          <p:nvPr/>
        </p:nvPicPr>
        <p:blipFill>
          <a:blip r:embed="rId1"/>
          <a:stretch/>
        </p:blipFill>
        <p:spPr>
          <a:xfrm>
            <a:off x="3286080" y="285840"/>
            <a:ext cx="5643720" cy="621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CaixaDeTexto 1"/>
          <p:cNvSpPr/>
          <p:nvPr/>
        </p:nvSpPr>
        <p:spPr>
          <a:xfrm>
            <a:off x="428760" y="1214280"/>
            <a:ext cx="3357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 espaço é essencialmente urbano, com suas dificuldades e com a luta das pessoas para nele se adaptarem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0" name="Imagem 2" descr="Imagem7.gif"/>
          <p:cNvPicPr/>
          <p:nvPr/>
        </p:nvPicPr>
        <p:blipFill>
          <a:blip r:embed="rId1"/>
          <a:stretch/>
        </p:blipFill>
        <p:spPr>
          <a:xfrm>
            <a:off x="7143840" y="442908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391" name="Imagem 3" descr="Imagem8.gif"/>
          <p:cNvPicPr/>
          <p:nvPr/>
        </p:nvPicPr>
        <p:blipFill>
          <a:blip r:embed="rId2"/>
          <a:stretch/>
        </p:blipFill>
        <p:spPr>
          <a:xfrm>
            <a:off x="7358040" y="2214720"/>
            <a:ext cx="1611360" cy="192852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4" descr="Imagem9.gif"/>
          <p:cNvPicPr/>
          <p:nvPr/>
        </p:nvPicPr>
        <p:blipFill>
          <a:blip r:embed="rId3"/>
          <a:stretch/>
        </p:blipFill>
        <p:spPr>
          <a:xfrm>
            <a:off x="7358040" y="214200"/>
            <a:ext cx="1581120" cy="1857600"/>
          </a:xfrm>
          <a:prstGeom prst="rect">
            <a:avLst/>
          </a:prstGeom>
          <a:ln w="0">
            <a:noFill/>
          </a:ln>
        </p:spPr>
      </p:pic>
      <p:pic>
        <p:nvPicPr>
          <p:cNvPr id="393" name="Imagem 5" descr="Imagem10.jpg"/>
          <p:cNvPicPr/>
          <p:nvPr/>
        </p:nvPicPr>
        <p:blipFill>
          <a:blip r:embed="rId4"/>
          <a:stretch/>
        </p:blipFill>
        <p:spPr>
          <a:xfrm>
            <a:off x="3929040" y="4329000"/>
            <a:ext cx="3000240" cy="2314800"/>
          </a:xfrm>
          <a:prstGeom prst="rect">
            <a:avLst/>
          </a:prstGeom>
          <a:ln w="0">
            <a:noFill/>
          </a:ln>
        </p:spPr>
      </p:pic>
      <p:pic>
        <p:nvPicPr>
          <p:cNvPr id="394" name="Imagem 6" descr="Imagem12.jpg"/>
          <p:cNvPicPr/>
          <p:nvPr/>
        </p:nvPicPr>
        <p:blipFill>
          <a:blip r:embed="rId5"/>
          <a:stretch/>
        </p:blipFill>
        <p:spPr>
          <a:xfrm>
            <a:off x="3929040" y="214200"/>
            <a:ext cx="3322800" cy="39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CaixaDeTexto 1"/>
          <p:cNvSpPr/>
          <p:nvPr/>
        </p:nvSpPr>
        <p:spPr>
          <a:xfrm>
            <a:off x="1285920" y="285840"/>
            <a:ext cx="685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O próprio Alcântara se referiu a sua obra: “Tenta Fixar tão somente alguns aspectos da vida trabalhadeira, íntima e quotidiana desses italianinhos. É um jornal. Nada mais. Notícia. Só. Não tem partido nem ideal. Não comenta. Não discute. Não aprofunda.”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CaixaDeTexto 1"/>
          <p:cNvSpPr/>
          <p:nvPr/>
        </p:nvSpPr>
        <p:spPr>
          <a:xfrm>
            <a:off x="1883880" y="2428920"/>
            <a:ext cx="553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  <a:ea typeface="Arial"/>
              </a:rPr>
              <a:t>ALUNOS:</a:t>
            </a:r>
            <a:endParaRPr b="0" lang="en-US" sz="9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7" name="adoniran barbosa e demonios da garoa-samba do arnesto174307.mp3" descr=""/>
          <p:cNvPicPr/>
          <p:nvPr/>
        </p:nvPicPr>
        <p:blipFill>
          <a:blip r:embed="rId1"/>
          <a:stretch/>
        </p:blipFill>
        <p:spPr>
          <a:xfrm>
            <a:off x="792972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3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CaixaDeTexto 2"/>
          <p:cNvSpPr/>
          <p:nvPr/>
        </p:nvSpPr>
        <p:spPr>
          <a:xfrm>
            <a:off x="2734920" y="2571840"/>
            <a:ext cx="39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hiago da Silva Melo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CaixaDeTexto 1"/>
          <p:cNvSpPr/>
          <p:nvPr/>
        </p:nvSpPr>
        <p:spPr>
          <a:xfrm>
            <a:off x="3371400" y="2571840"/>
            <a:ext cx="282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Maicon Lazari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CaixaDeTexto 1"/>
          <p:cNvSpPr/>
          <p:nvPr/>
        </p:nvSpPr>
        <p:spPr>
          <a:xfrm>
            <a:off x="2804760" y="257184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derson  de  Paul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4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CaixaDeTexto 1"/>
          <p:cNvSpPr/>
          <p:nvPr/>
        </p:nvSpPr>
        <p:spPr>
          <a:xfrm>
            <a:off x="515880" y="571680"/>
            <a:ext cx="820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SOBRE O AUTOR: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1" name="Imagem 2" descr="Imagem2.jpg"/>
          <p:cNvPicPr/>
          <p:nvPr/>
        </p:nvPicPr>
        <p:blipFill>
          <a:blip r:embed="rId1"/>
          <a:stretch/>
        </p:blipFill>
        <p:spPr>
          <a:xfrm>
            <a:off x="2071800" y="2143080"/>
            <a:ext cx="5286240" cy="41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CaixaDeTexto 1"/>
          <p:cNvSpPr/>
          <p:nvPr/>
        </p:nvSpPr>
        <p:spPr>
          <a:xfrm>
            <a:off x="3511440" y="264312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du Carlo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4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CaixaDeTexto 1"/>
          <p:cNvSpPr/>
          <p:nvPr/>
        </p:nvSpPr>
        <p:spPr>
          <a:xfrm>
            <a:off x="3227400" y="271476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Fernando May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CaixaDeTexto 1"/>
          <p:cNvSpPr/>
          <p:nvPr/>
        </p:nvSpPr>
        <p:spPr>
          <a:xfrm>
            <a:off x="3157920" y="2500200"/>
            <a:ext cx="282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Raphael Mari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1844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 Unicode MS"/>
              </a:rPr>
              <a:t>Escola Estadual Filinto Muller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0000"/>
                </a:solidFill>
                <a:latin typeface="Arial Unicode MS"/>
              </a:rPr>
              <a:t>Professora Marta Roque Branco</a:t>
            </a:r>
            <a:endParaRPr b="0" lang="en-US" sz="3600" spc="-1" strike="noStrike">
              <a:solidFill>
                <a:srgbClr val="f8f8f8"/>
              </a:solidFill>
              <a:latin typeface="Consolas"/>
            </a:endParaRPr>
          </a:p>
        </p:txBody>
      </p:sp>
    </p:spTree>
  </p:cSld>
  <p:transition spd="slow" advTm="1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CaixaDeTexto 1"/>
          <p:cNvSpPr/>
          <p:nvPr/>
        </p:nvSpPr>
        <p:spPr>
          <a:xfrm>
            <a:off x="428760" y="285840"/>
            <a:ext cx="8358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José de Alcântara Machado de Oliveira nasceu em Piracicaba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em 19 de Outubro de 1901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e faleceu em São Paulo em 1 de Abril de 1941.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CaixaDeTexto 1"/>
          <p:cNvSpPr/>
          <p:nvPr/>
        </p:nvSpPr>
        <p:spPr>
          <a:xfrm>
            <a:off x="1571760" y="4857840"/>
            <a:ext cx="635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ursou a faculdade d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ireito de São Paul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(hoje Faculdade de Direito da USP)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4" name="Imagem 2" descr="238_833-fdsp.jpg"/>
          <p:cNvPicPr/>
          <p:nvPr/>
        </p:nvPicPr>
        <p:blipFill>
          <a:blip r:embed="rId1"/>
          <a:stretch/>
        </p:blipFill>
        <p:spPr>
          <a:xfrm>
            <a:off x="1571760" y="214200"/>
            <a:ext cx="6513480" cy="428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CaixaDeTexto 1"/>
          <p:cNvSpPr/>
          <p:nvPr/>
        </p:nvSpPr>
        <p:spPr>
          <a:xfrm>
            <a:off x="1143000" y="1714680"/>
            <a:ext cx="700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Quase foi exilado em 1932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devido a Revolução Constitucionalista.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CaixaDeTexto 1"/>
          <p:cNvSpPr/>
          <p:nvPr/>
        </p:nvSpPr>
        <p:spPr>
          <a:xfrm>
            <a:off x="500040" y="135720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Foi vereador de São Paulo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e ingressou na Academia Brasileira de Letras,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onde em seu discurso de posse introduziu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a famosa declaração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aulista sou, há quatrocentos anos”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CaixaDeTexto 1"/>
          <p:cNvSpPr/>
          <p:nvPr/>
        </p:nvSpPr>
        <p:spPr>
          <a:xfrm>
            <a:off x="214200" y="149400"/>
            <a:ext cx="8643960" cy="66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A bibliografia de Alcântara Machado inclui as seguintes obras: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A embriaguez e a responsabilidade criminal”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O exame pericial do Direito Romano”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Vida e morte do bandeirante”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Basílio Machado” e, ainda “Brás, Bexiga e Barra Funda”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CaixaDeTexto 1"/>
          <p:cNvSpPr/>
          <p:nvPr/>
        </p:nvSpPr>
        <p:spPr>
          <a:xfrm>
            <a:off x="933480" y="28584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SOBRE A OBRA: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Imagem 2" descr="Imagem3.jpg"/>
          <p:cNvPicPr/>
          <p:nvPr/>
        </p:nvPicPr>
        <p:blipFill>
          <a:blip r:embed="rId1"/>
          <a:stretch/>
        </p:blipFill>
        <p:spPr>
          <a:xfrm>
            <a:off x="357120" y="3071880"/>
            <a:ext cx="3786120" cy="3503520"/>
          </a:xfrm>
          <a:prstGeom prst="rect">
            <a:avLst/>
          </a:prstGeom>
          <a:ln w="0">
            <a:noFill/>
          </a:ln>
        </p:spPr>
      </p:pic>
      <p:pic>
        <p:nvPicPr>
          <p:cNvPr id="380" name="Imagem 3" descr="Imagem4.jpg"/>
          <p:cNvPicPr/>
          <p:nvPr/>
        </p:nvPicPr>
        <p:blipFill>
          <a:blip r:embed="rId2"/>
          <a:stretch/>
        </p:blipFill>
        <p:spPr>
          <a:xfrm>
            <a:off x="4643280" y="2286000"/>
            <a:ext cx="4257720" cy="2643120"/>
          </a:xfrm>
          <a:prstGeom prst="rect">
            <a:avLst/>
          </a:prstGeom>
          <a:ln w="0">
            <a:noFill/>
          </a:ln>
        </p:spPr>
      </p:pic>
      <p:sp>
        <p:nvSpPr>
          <p:cNvPr id="381" name="CaixaDeTexto 4"/>
          <p:cNvSpPr/>
          <p:nvPr/>
        </p:nvSpPr>
        <p:spPr>
          <a:xfrm>
            <a:off x="939960" y="235728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arra Fund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CaixaDeTexto 5"/>
          <p:cNvSpPr/>
          <p:nvPr/>
        </p:nvSpPr>
        <p:spPr>
          <a:xfrm>
            <a:off x="6219720" y="500076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rá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CaixaDeTexto 1"/>
          <p:cNvSpPr/>
          <p:nvPr/>
        </p:nvSpPr>
        <p:spPr>
          <a:xfrm>
            <a:off x="928800" y="1714680"/>
            <a:ext cx="757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É uma das notáveis da primeira fase do Modernismo brasileiro.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3:24:42Z</dcterms:created>
  <dc:creator>Jorge</dc:creator>
  <dc:description/>
  <dc:language>en-US</dc:language>
  <cp:lastModifiedBy>Escola</cp:lastModifiedBy>
  <dcterms:modified xsi:type="dcterms:W3CDTF">2009-07-29T18:03:55Z</dcterms:modified>
  <cp:revision>26</cp:revision>
  <dc:subject/>
  <dc:title>Slide 1</dc:title>
</cp:coreProperties>
</file>